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4AA-8A70-4612-A217-18AC30B7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20A-1795-4EEC-A05F-457ED144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5DB-0290-4EA7-89F0-E7DD9256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1A3-BF94-4B55-8ED2-822564E2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6C3-F423-4F84-8A47-50D06D9A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B00-6BD3-4E09-811B-31608667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966-5C23-47D6-8BB0-062CC4F1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A79-C4C6-48DB-832C-6F56E49B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512-C194-4779-B369-CCCE048C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202-40C7-48C3-B94C-0B960E4A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966-51A1-4CB5-A383-21DD403F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B6F-50F0-46A8-B1DD-4BA501C1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724B-0244-4433-8A83-7E7C72853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 to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serve the Lo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8:39Z</dcterms:created>
  <dc:creator>Anon Anon</dc:creator>
  <dc:description/>
  <dc:language>en-US</dc:language>
  <cp:lastModifiedBy>Anon Anon</cp:lastModifiedBy>
  <dcterms:modified xsi:type="dcterms:W3CDTF">2005-08-09T05:28:13Z</dcterms:modified>
  <cp:revision>8</cp:revision>
  <dc:subject/>
  <dc:title>PowerPoint Presentation</dc:title>
</cp:coreProperties>
</file>